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11.gif" ContentType="image/gif"/>
  <Override PartName="/ppt/media/image10.jpeg" ContentType="image/jpeg"/>
  <Override PartName="/ppt/media/image25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6.jpeg" ContentType="image/jpeg"/>
  <Override PartName="/ppt/media/image23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16.jpeg" ContentType="image/jpeg"/>
  <Override PartName="/ppt/media/image22.png" ContentType="image/png"/>
  <Override PartName="/ppt/media/image21.jpeg" ContentType="image/jpeg"/>
  <Override PartName="/ppt/media/image17.gif" ContentType="image/gi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A63-7A51-4074-9AF1-2703D5FA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D1E-739A-4AB1-B826-46B0BD73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E3B-6F51-4FD2-90A9-FF718CD8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0FD-615A-41B9-98B1-44075F1C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52D-0DF7-42B4-8CEC-69383D17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3A4-D7AC-4788-9D92-5ACFC831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5BC-FFD5-4E67-928A-D3C35624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F6D-4F5E-44AB-9127-FF59611A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6CA-0C5B-4E38-9406-EFA8920D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9C0-B02F-4956-BF2E-E55A092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3C4-6347-4D28-9BEA-C1D6EDE8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C97-C0AE-4B47-8CE1-647497BF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8F06-E83A-4996-9F2D-2760A08275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7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09680" y="1447920"/>
            <a:ext cx="4114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文明交往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952880" y="3429000"/>
            <a:ext cx="205740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初一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(</a:t>
            </a: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六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)</a:t>
            </a: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班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班会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886200" cy="3581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609480"/>
            <a:ext cx="426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“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心扉如同门户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小小的要钥匙便可以打开它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同学们，你有这样的钥匙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4572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）真诚的感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1.gif (6812 字节)"/>
          <p:cNvPicPr/>
          <p:nvPr/>
        </p:nvPicPr>
        <p:blipFill>
          <a:blip r:embed="rId2"/>
          <a:stretch/>
        </p:blipFill>
        <p:spPr>
          <a:xfrm>
            <a:off x="228600" y="4343400"/>
            <a:ext cx="2057400" cy="1714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4120" y="457200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）真诚的道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257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）真诚的祝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1814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）真诚的咨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81280" y="121932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9880" y="685800"/>
            <a:ext cx="4114800" cy="3276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33920" y="40384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好好玩哦！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71800" y="914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希望同学们通过这次学习，学会在生活中文明交往。在即将来临的文艺汇演和越野跑中文明地取得好成绩！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20574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6629400" y="2666880"/>
            <a:ext cx="1345320" cy="914400"/>
            <a:chOff x="6629400" y="2666880"/>
            <a:chExt cx="1345320" cy="914400"/>
          </a:xfrm>
        </p:grpSpPr>
        <p:sp>
          <p:nvSpPr>
            <p:cNvPr id="88" name=""/>
            <p:cNvSpPr/>
            <p:nvPr/>
          </p:nvSpPr>
          <p:spPr>
            <a:xfrm>
              <a:off x="7791120" y="2666880"/>
              <a:ext cx="183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6629400" y="2666880"/>
              <a:ext cx="117648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28800" y="1676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下面请参加文艺汇演的同学来表演节目，请同学们提一提自己的建议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52480" y="3505320"/>
            <a:ext cx="1371600" cy="1744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257800" y="342900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58440" y="3733920"/>
            <a:ext cx="18867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加油！   加油！加油！加油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12952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文明交往我也会嘛！！见到人说你好，谢谢，再见，多简单啊！！不用学啦！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2971800"/>
            <a:ext cx="3809880" cy="1371600"/>
          </a:xfrm>
          <a:prstGeom prst="wedgeRoundRectCallout">
            <a:avLst>
              <a:gd name="adj1" fmla="val -43583"/>
              <a:gd name="adj2" fmla="val 78472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那可不一定哦！！你会说，并不代表你会用哦！让我们同学比一比吧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1.gif (6812 字节)"/>
          <p:cNvPicPr/>
          <p:nvPr/>
        </p:nvPicPr>
        <p:blipFill>
          <a:blip r:embed="rId3"/>
          <a:stretch/>
        </p:blipFill>
        <p:spPr>
          <a:xfrm>
            <a:off x="838080" y="4191120"/>
            <a:ext cx="2133720" cy="1904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81680" y="76212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33720" y="3352680"/>
            <a:ext cx="4647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6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礼貌用语小词典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543800" y="0"/>
            <a:ext cx="6914520" cy="5409720"/>
            <a:chOff x="7543800" y="0"/>
            <a:chExt cx="6914520" cy="5409720"/>
          </a:xfrm>
        </p:grpSpPr>
        <p:sp>
          <p:nvSpPr>
            <p:cNvPr id="49" name=""/>
            <p:cNvSpPr/>
            <p:nvPr/>
          </p:nvSpPr>
          <p:spPr>
            <a:xfrm>
              <a:off x="14275080" y="0"/>
              <a:ext cx="1832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7543800" y="610920"/>
              <a:ext cx="1442880" cy="20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7543800" y="3752280"/>
              <a:ext cx="1530000" cy="165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23.gif (9114 bytes)"/>
          <p:cNvPicPr/>
          <p:nvPr/>
        </p:nvPicPr>
        <p:blipFill>
          <a:blip r:embed="rId2"/>
          <a:stretch/>
        </p:blipFill>
        <p:spPr>
          <a:xfrm>
            <a:off x="1523880" y="1295280"/>
            <a:ext cx="1081080" cy="976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23.gif (9114 bytes)"/>
          <p:cNvPicPr/>
          <p:nvPr/>
        </p:nvPicPr>
        <p:blipFill>
          <a:blip r:embed="rId3"/>
          <a:stretch/>
        </p:blipFill>
        <p:spPr>
          <a:xfrm>
            <a:off x="1523880" y="4343400"/>
            <a:ext cx="1081080" cy="97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23.gif (9114 bytes)"/>
          <p:cNvPicPr/>
          <p:nvPr/>
        </p:nvPicPr>
        <p:blipFill>
          <a:blip r:embed="rId4"/>
          <a:stretch/>
        </p:blipFill>
        <p:spPr>
          <a:xfrm>
            <a:off x="2971800" y="2895480"/>
            <a:ext cx="1081080" cy="976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23.gif (9114 bytes)"/>
          <p:cNvPicPr/>
          <p:nvPr/>
        </p:nvPicPr>
        <p:blipFill>
          <a:blip r:embed="rId5"/>
          <a:stretch/>
        </p:blipFill>
        <p:spPr>
          <a:xfrm>
            <a:off x="3809880" y="914400"/>
            <a:ext cx="1081080" cy="976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962520" y="3505320"/>
            <a:ext cx="2228760" cy="2014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029200" y="914400"/>
            <a:ext cx="3314880" cy="261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8229600" y="5562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contrast="20000"/>
            <a:alphaModFix amt="49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147680" y="533520"/>
            <a:ext cx="3837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你不小心损坏了他人的物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你应该用什么礼貌用语道歉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924680" y="571500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contrast="20000"/>
            <a:alphaModFix amt="49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1223640" y="533520"/>
            <a:ext cx="3837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当朋友亲友病了或在生活上遇到失败挫折，你会怎样安慰他（她）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001000" y="5562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contrast="20000"/>
            <a:alphaModFix amt="49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995400" y="533520"/>
            <a:ext cx="4446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如果你对他人交给你的任务感到困难或做不到时，你觉得应怎样推辞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01000" y="5562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contrast="20000"/>
            <a:alphaModFix amt="49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833120" y="533520"/>
            <a:ext cx="322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当别人生日或遇到开心的事，你会怎样祝贺他（她）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01000" y="5562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43200" y="5335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62320" y="990720"/>
            <a:ext cx="4343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情景小剧场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33520" y="2666880"/>
            <a:ext cx="144756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3:15:5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48:01Z</dcterms:modified>
  <cp:revision>7</cp:revision>
  <dc:subject>主题班会课件(分28大类): http://shop62905894.taobao.com</dc:subject>
  <dc:title>主题班会课件(分28大类): http://shop62905894.taobao.com</dc:title>
</cp:coreProperties>
</file>